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5EBA-7C22-4F67-AEB4-E98D0A5B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81F-0F77-4A9F-923A-5D60A4AD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4C5-A057-4FCF-99D8-5AC84931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64F9-E23D-4E04-B438-37903DEF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4DA6-2D4E-4746-8A79-4F3F42C0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50A8-738F-4CC3-ADFB-CCDCE35C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E40E-B290-4242-BB8C-29449C7E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6FDF-C666-448C-AC05-C32C00D3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FBA-C8DC-4801-AE14-A042B9CC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B18A-AAF3-4CD9-84A6-417C25DD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A8BC-7B2D-4700-A232-A952D1E3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0AF4-1ADE-47D6-8EEC-52B50AE5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3822-7E27-4EED-8F6C-387E73F7509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1:Practice 1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428760" y="1352520"/>
            <a:ext cx="792936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πεσομε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λαβο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βαλλετ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ἰπε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γενετο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ἠλθο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φευγε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ἰδε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5072040" y="21686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e f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5057640" y="26766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/they t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5057640" y="31734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you (pl.) were thro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5057640" y="368784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e sa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5057640" y="418464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t happe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5057640" y="47070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/they c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5057640" y="520380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he was flee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5057640" y="57150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you s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1:Practice 2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00040" y="1424160"/>
            <a:ext cx="792972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μαθει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ὑρω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μανθανει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ἰπ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νεγκοντε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λθω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λαβετ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ἰδει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3800520" y="224964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Infi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sc. Nom. Pl. Aorist Partici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3786120" y="32558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Infi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3786120" y="3770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ingular Aorist Imper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3786120" y="426708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sc. Nom. Pl. Aorist Partici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3786120" y="47894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sc. Nom. Sing. Aorist Partici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3786120" y="528624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lural Aorist Imper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3786120" y="579744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Infi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1:Practice 3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428760" y="1352520"/>
            <a:ext cx="79293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καταβ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νεβη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ἠλθα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γνωτ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γνου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5072040" y="21686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aving gone d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5057640" y="26766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e went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5057640" y="31734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y c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5057640" y="368784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you (pl.) kn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057640" y="418464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aving kn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1:Practice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4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142920" y="1319040"/>
            <a:ext cx="792936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ολλοι ἀπεθανο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ἠγον αὐτο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φαγον τον ἀρτο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λθοντες εἰδον αὐτο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ἰδε την ὁδο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δει ἐλθειν εἰς τα Ἱεροσολυμ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586400" y="21985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ny di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572000" y="270828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 was/they were leading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572000" y="32050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/they ate the bre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72000" y="37180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hen they came, they saw h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572000" y="42148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ee the roa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4572000" y="473868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t is necessary to go to Jerusal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1:Practice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5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42920" y="1176480"/>
            <a:ext cx="7929360" cy="65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ἰπων ταυτα ὁ Ἰησους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ξηλθε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ναβας εἰς το ἱερον ἀπεθανε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prophets spok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 loved the s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 want to see the s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hen I found it, I took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43280" y="128592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fter Jesus had said these things he le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4643280" y="228132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hen he had gone up to the temple he di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4641840" y="3284640"/>
            <a:ext cx="4071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οἱ προφητοι εἰπο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4643280" y="37861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ον υἱον ἐφιλησα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φιλου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if you want to stress continuity)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4643280" y="480060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θελω ἰδειν (βλεψαι) την θαλασσαν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4643280" y="5823000"/>
            <a:ext cx="4071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ὑρων ἐλαβον αὐτο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1:Practice 6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4440" y="87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1.2 THE FUTURE AND AORISTS OF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LIQUID VERB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428760" y="1352520"/>
            <a:ext cx="7929360" cy="33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μεινα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παγγελοῦμε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ἠγειρε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5072040" y="21686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y remain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5057640" y="2676600"/>
            <a:ext cx="30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e will annou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5057640" y="3173400"/>
            <a:ext cx="38721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e raised (in fact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ἠγειρε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could also be imperfect- he was raising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5072040" y="43959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y kill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5072040" y="48960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e will judge the wor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28760" y="4297320"/>
            <a:ext cx="457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πεκτεινα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κρινεῖ τον κοσμο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ποστειλας ἐξηλθε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5072040" y="53960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aving sent, he went o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1:Practice 7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244440" y="87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1.2 THE FUTURE AND AORISTS OF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LIQUID VERB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14200" y="1352520"/>
            <a:ext cx="7929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θελω σπειρα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ραντες, ἠνεγκο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4857840" y="216864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 wish to s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4843440" y="2706840"/>
            <a:ext cx="43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fter they lifted, they broug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1143000" y="3429000"/>
            <a:ext cx="385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y will annou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You (pl.) will thr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Raise (s.) the dead ma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e killed 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4857840" y="3414600"/>
            <a:ext cx="371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αγγελουσι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4857840" y="4145040"/>
            <a:ext cx="371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ειτ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5"/>
          <p:cNvSpPr/>
          <p:nvPr/>
        </p:nvSpPr>
        <p:spPr>
          <a:xfrm>
            <a:off x="4857840" y="4888080"/>
            <a:ext cx="371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γειρον τον νεκρο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6"/>
          <p:cNvSpPr/>
          <p:nvPr/>
        </p:nvSpPr>
        <p:spPr>
          <a:xfrm>
            <a:off x="4857840" y="5608800"/>
            <a:ext cx="371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εκτεινεν αὐτη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6:34:43Z</dcterms:created>
  <dc:creator>Sarah</dc:creator>
  <dc:description/>
  <dc:language>en-US</dc:language>
  <cp:lastModifiedBy>Sarah</cp:lastModifiedBy>
  <dcterms:modified xsi:type="dcterms:W3CDTF">2008-09-17T22:21:54Z</dcterms:modified>
  <cp:revision>23</cp:revision>
  <dc:subject/>
  <dc:title>Slide 1</dc:title>
</cp:coreProperties>
</file>